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4801-7D38-4ACA-A6B5-D45BDD70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.findmeagift.co.uk/post/voyager-1-left-build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sbougheygrade3.blogspot.ca/2011/11/astronomy-revie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blogs.com/startswithabang/2010/09/13/geocentrism-was-galileo-wro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enceblogs.com/startswithabang/2010/09/13/geocentrism-was-galileo-wro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hnosullivan.wordpress.com/2012/11/19/the-greenhouse-gas-blanket-that-fails-to-warm-the-world/sun-heats-earth-on-one-hemisphere-onl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dayifoundout.com/index.php/2011/12/an-asteroid-field-would-actually-be-quite-safe-to-fly-throug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elegraph.co.uk/science/space/10506004/Comet-Ison-a-solar-fly-by-bearing-news-from-our-cosmic-pas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theos.com/blogs/progressivesecularhumanist/2014/02/science-literacy-1-in-4-americans-dont-know-the-earth-orbits-the-su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DBD-BBAE-4ACA-8DB2-5B17A4D9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5F2-C39C-41C6-B9C3-F9FE2503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F9B-26F8-4465-99D5-79E4D53B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0EA-BD93-4DC2-8AE5-53AA29F2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061-C271-4421-97DE-ADE88FAC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620-C863-4AE7-B5E4-022EEBE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58F-504D-4EA2-ADC7-8ED1A702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217-068F-438F-8043-0F593E9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913-CFCE-4F31-BFB0-BDAE3E1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010-DAF1-477B-8034-B5D95E5F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A53-660A-4B5F-B55C-1B497C9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DD4-422E-4355-AB95-CCE2D9B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DC2A-E370-44C1-9CF9-316C5BB16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on in the Solar Syst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vs.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al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pin) on their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ing out what is whe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41400" y="1981080"/>
            <a:ext cx="726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than 2000 years, people believed our solar system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565280"/>
            <a:ext cx="4114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3886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in the 16th century that 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1698480"/>
            <a:ext cx="38862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ical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is 150 million km away from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s in the Solar System are measur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tronomical un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2417760"/>
            <a:ext cx="45720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rocky objects with irregula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located in the asteroid belt between Mars and 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2289240"/>
            <a:ext cx="44193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than 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 up in Earth’s atmosphere,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“shooting” 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nants that land on Earth are called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unks of ice, dust, and rock that orbit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causes frozen gases to evaporate &amp; a long tail is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43400" y="261144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vs.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olar System, all plane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bit)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2327400"/>
            <a:ext cx="4419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21:05:29Z</dcterms:created>
  <dc:creator>rubina khan</dc:creator>
  <dc:description/>
  <dc:language>en-US</dc:language>
  <cp:lastModifiedBy>rubina khan</cp:lastModifiedBy>
  <dcterms:modified xsi:type="dcterms:W3CDTF">2014-10-17T12:39:46Z</dcterms:modified>
  <cp:revision>27</cp:revision>
  <dc:subject/>
  <dc:title>Motion in the Solar System 9.1</dc:title>
</cp:coreProperties>
</file>